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D20-051E-4634-A3D9-0969E7D3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E1A-064C-4474-8F2B-26E5052F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941-AA37-413B-A5FC-67625462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C8C-4E56-48F4-AD35-7C38B5F7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D58F-AF4F-4B9D-9917-6511CB9C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66E6-3E98-42F6-A1C0-77626DF2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69E6-560A-4EF8-B05E-9CA9C131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596E-FFDC-4FD3-A017-5E8C14A1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7F21-D3B0-4143-99CC-CAE20A7D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2E41-63B7-4A0D-82C0-3B9873E6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3F5C-FF17-4858-909E-976E275D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0F7-0591-45DC-AE09-F1ADD03C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B2A4-DBC2-42C2-9C5F-A60325F1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0394-1E6C-4FAE-A16F-18D8E69B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F1C2-304F-439D-9AF3-149E3F84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8C5E-6096-441B-8304-1034F969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D419-0F57-4879-865F-4A1108E2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56A-479C-428D-A5B3-4D6CF68C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641-6B5C-43FC-A324-B5C10706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CEFA-47FA-4A9F-ABB1-7659A056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5E6-FED3-4631-B8AC-168C3DE8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221-AB07-47E0-B84D-6B09A172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12B-D84C-4122-97DF-75EE809A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E75-DB93-4725-9C4C-33E71EFC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095A-C2C3-418A-A8C8-E63AD24607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8B13-730D-4172-892A-83963E0FC5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b2b2b2"/>
                </a:solidFill>
                <a:latin typeface="Arial"/>
              </a:rPr>
              <a:t>Ser vs. Esta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ge 15 – Lección Prelimin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vancemos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er vs. Est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member that ser and estar both mean “to be.”  They are used in different situations and have different mean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et´s talk about the uses of SER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952880"/>
            <a:ext cx="4191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SER to describe permanent CHARACTERISTICS of objects and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a canción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muy origi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SER to indicate origin, nationality, or prof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i tía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scritora. 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 Madr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SER to indicate when and where something takes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concierto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l viernes.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 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el teat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SER to indicate poss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guitarra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 Eli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EST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ESTAR to describe temporary characteristics, emotional states, or con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teatro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tá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errado a esta ho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actores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tá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muy nervio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EST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ESTAR to indicate lo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conjunto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tá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el escena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ESTAR to form the progressive t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bailarín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tá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interpretando a Cab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er vs. Est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ome adjectives have different meanings depending on whether they are used with </a:t>
            </a:r>
            <a:r>
              <a:rPr b="0" i="1" lang="es-ES" sz="3200" spc="-1" strike="noStrike">
                <a:solidFill>
                  <a:srgbClr val="3399ff"/>
                </a:solidFill>
                <a:latin typeface="Arial"/>
              </a:rPr>
              <a:t>ser</a:t>
            </a:r>
            <a:r>
              <a:rPr b="0" lang="es-ES" sz="3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r with </a:t>
            </a:r>
            <a:r>
              <a:rPr b="0" i="1" lang="es-ES" sz="3200" spc="-1" strike="noStrike">
                <a:solidFill>
                  <a:srgbClr val="3399ff"/>
                </a:solidFill>
                <a:latin typeface="Arial"/>
              </a:rPr>
              <a:t>esta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bailarina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 bonit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The dancer is pret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bailarina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tá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muy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bonit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ho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The dancer looks pretty today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er vs. Est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cómico es aburri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He is boring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cómico está aburri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He is bored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cantante es 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He is wealthy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postre está 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It is rich-tasting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9:46:05Z</dcterms:created>
  <dc:creator> John McCreary</dc:creator>
  <dc:description/>
  <dc:language>en-US</dc:language>
  <cp:lastModifiedBy>Local User</cp:lastModifiedBy>
  <dcterms:modified xsi:type="dcterms:W3CDTF">2009-08-17T20:36:25Z</dcterms:modified>
  <cp:revision>4</cp:revision>
  <dc:subject/>
  <dc:title>Ser vs. Estar</dc:title>
</cp:coreProperties>
</file>